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2D6-9F44-4DBE-A249-7B9F1250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1FC-7607-40D6-BD57-D097AFF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8F2-FEF8-4779-B2E1-78DA52C4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3A0-2F27-4A06-BE53-D1D45B6B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FD8-BE7A-4F8F-8B2B-4BF5C24B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6EA-3004-4D7E-8168-15A61BF6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273-2D7A-4247-A731-4BC23C0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2B83-799C-42E5-8AC2-A5CA1D91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E40B-7B69-4D68-B444-AE4D3C27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8B58-1B3C-40DF-BF29-70329C23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6B2-3358-409B-A2E5-F9EB65F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2E3-3ECF-4ECD-BB73-65AD24A1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ABBA-BAD6-4C50-A287-9CE1F6CB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EE8-85C8-4791-8941-6ABCB74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55A8-6A00-42DB-976C-D32800C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BF4E-FD7B-4B05-8DFE-4C0B5EE2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40C-716A-4842-BF1B-7878407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783-9CE9-45D2-9FF6-89342CC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D46-02EE-4B8B-9B1C-B9EF067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0F3-562C-4592-8B76-886B36A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58F-0840-4256-ACDD-EFAF9DD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BC4-8C1D-4BB4-9C2B-F0C1486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E6A-E305-49A6-A4C0-CA711ED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152-395B-46F7-8E6C-62E29AA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9EAD-C176-4128-8010-9540BEC678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AEEA-03E5-4F38-8F6B-895E63B0E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9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tween individuals with two pairs of trai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3231"/>
          <a:stretch/>
        </p:blipFill>
        <p:spPr>
          <a:xfrm>
            <a:off x="1219320" y="25909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 Ru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figure out what the gametes are that the parents can make. Use the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to do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a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>
                <a:solidFill>
                  <a:srgbClr val="d9d8ec"/>
                </a:solidFill>
                <a:latin typeface="Arial"/>
              </a:rPr>
              <a:t>Aa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, Ab, aB, 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d9d8ec"/>
                </a:solidFill>
                <a:latin typeface="Arial"/>
              </a:rPr>
              <a:t>AB, Ab, aB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place the gametes along the top and sides of the square and do the cr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762120" y="1523880"/>
            <a:ext cx="777240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0" t="0" r="0" b="4623"/>
          <a:stretch/>
        </p:blipFill>
        <p:spPr>
          <a:xfrm>
            <a:off x="3200400" y="4495680"/>
            <a:ext cx="2619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2057400"/>
          <a:ext cx="77724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048120" y="1752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from Parent One (Fe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2000" y="28195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from Parent Two (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ple Alle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lleles exist for a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95280" y="2174760"/>
            <a:ext cx="6096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x Influenced Tra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s expressed differently in males and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4038480"/>
            <a:ext cx="701064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7242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4100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5638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343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Bb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029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not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5562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not 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ot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10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AA:1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2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show dominant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40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AA:2Aa:1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3 not red:1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35812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56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57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Aa:1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red: 1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1523880"/>
            <a:ext cx="274320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581280"/>
            <a:ext cx="2743200" cy="1905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430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7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 Dominance vs. Incomplete Dom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raits displ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esence of one dominant allele masks the recessive alle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its displ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omplete dominanc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condition results in a separate phenotype, neither allele is completely dominant-they blen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ome flowers, AA is red, Aa is pink, and aa is wh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" y="274320"/>
            <a:ext cx="82296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its are controll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th alleles for a gene are expressed in heterozygous offspr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ither allele is dominant or recessive, nor do they blend; each is expressed equall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est example of this is in a horse’s coat color; heterozygous = roan color where they have both white and red hai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43:17Z</dcterms:created>
  <dc:creator>Tricia</dc:creator>
  <dc:description/>
  <dc:language>en-US</dc:language>
  <cp:lastModifiedBy>Tricia</cp:lastModifiedBy>
  <dcterms:modified xsi:type="dcterms:W3CDTF">2007-02-23T16:50:04Z</dcterms:modified>
  <cp:revision>4</cp:revision>
  <dc:subject/>
  <dc:title>Slide 1</dc:title>
</cp:coreProperties>
</file>